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7.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497F8E-52B3-4723-A598-4CFABB6046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FEF63E3-7E16-46B5-BE7D-429249FC8E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588C769-443C-42F2-88F2-41A496A252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0DF38E5-52D2-4936-91F6-49E0E60678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340A874-B978-4AB2-9AE1-89F74CF0D7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CD4A176-8409-4734-B981-992FD578BF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DDF01D6-F42A-4F1E-9B14-7B9F175F51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39026E1-2BAD-4A9B-9295-B7C1D75501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048747F-AD76-47EC-BBF7-0094260E25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5118678-B315-44D7-B7A8-6E893B9E79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77D0D53-BDB1-49C1-8468-B0432A2FAB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A3ED599-9BA4-4367-B8D0-EE2D5D80F0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1BA95-931A-4B85-8890-9875E6B5996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360" y="836640"/>
            <a:ext cx="8783640" cy="31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000" spc="-1" strike="noStrike">
                <a:solidFill>
                  <a:srgbClr val="ffffff"/>
                </a:solidFill>
                <a:latin typeface="楷体"/>
                <a:ea typeface="楷体"/>
              </a:rPr>
              <a:t>第二节  </a:t>
            </a:r>
            <a:br>
              <a:rPr sz="4000"/>
            </a:br>
            <a:r>
              <a:rPr b="1" lang="en-US" sz="4000" spc="-1" strike="noStrike">
                <a:solidFill>
                  <a:srgbClr val="ffffff"/>
                </a:solidFill>
                <a:latin typeface="楷体"/>
                <a:ea typeface="楷体"/>
              </a:rPr>
              <a:t>   </a:t>
            </a:r>
            <a:r>
              <a:rPr b="1" lang="zh-CN" sz="4000" spc="-1" strike="noStrike">
                <a:solidFill>
                  <a:srgbClr val="ffffff"/>
                </a:solidFill>
                <a:latin typeface="楷体"/>
                <a:ea typeface="楷体"/>
              </a:rPr>
              <a:t>七、传统疗法在康复护理中的应用</a:t>
            </a:r>
            <a:endParaRPr b="0" lang="en-US" sz="4000" spc="-1" strike="noStrike">
              <a:solidFill>
                <a:srgbClr val="ffffff"/>
              </a:solidFill>
              <a:latin typeface="Verdana"/>
            </a:endParaRPr>
          </a:p>
        </p:txBody>
      </p:sp>
      <p:sp>
        <p:nvSpPr>
          <p:cNvPr id="105" name="Text Box 4"/>
          <p:cNvSpPr/>
          <p:nvPr/>
        </p:nvSpPr>
        <p:spPr>
          <a:xfrm>
            <a:off x="6300720" y="5229360"/>
            <a:ext cx="223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Arial"/>
                <a:ea typeface="宋体"/>
              </a:rPr>
              <a:t>  </a:t>
            </a:r>
            <a:r>
              <a:rPr b="1" lang="zh-CN" sz="3600" spc="-1" strike="noStrike">
                <a:solidFill>
                  <a:srgbClr val="fe230c"/>
                </a:solidFill>
                <a:latin typeface="Arial"/>
                <a:ea typeface="宋体"/>
              </a:rPr>
              <a:t>姜贵云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0920" y="475920"/>
            <a:ext cx="8281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29" name="PlaceHolder 2"/>
          <p:cNvSpPr>
            <a:spLocks noGrp="1"/>
          </p:cNvSpPr>
          <p:nvPr>
            <p:ph/>
          </p:nvPr>
        </p:nvSpPr>
        <p:spPr>
          <a:xfrm>
            <a:off x="468000" y="1844280"/>
            <a:ext cx="8280360" cy="3816360"/>
          </a:xfrm>
          <a:prstGeom prst="rect">
            <a:avLst/>
          </a:prstGeom>
          <a:noFill/>
          <a:ln w="0">
            <a:noFill/>
          </a:ln>
        </p:spPr>
        <p:txBody>
          <a:bodyPr anchor="t">
            <a:normAutofit/>
          </a:bodyPr>
          <a:p>
            <a:pPr lvl="1" marL="179280" indent="0">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Arial"/>
                <a:ea typeface="宋体"/>
              </a:rPr>
              <a:t>适应证：</a:t>
            </a:r>
            <a:endParaRPr b="0" lang="en-US" sz="2800" spc="-1" strike="noStrike">
              <a:solidFill>
                <a:srgbClr val="046ca6"/>
              </a:solidFill>
              <a:latin typeface="Arial"/>
            </a:endParaRPr>
          </a:p>
          <a:p>
            <a:pPr lvl="1" marL="179280" indent="0">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由于脑血管意外等原因引起的肢体瘫痪、失语、失眠、焦虑不安，经其他治疗效果不佳者</a:t>
            </a:r>
            <a:endParaRPr b="0" lang="en-US" sz="2800" spc="-1" strike="noStrike">
              <a:solidFill>
                <a:srgbClr val="046ca6"/>
              </a:solidFill>
              <a:latin typeface="Arial"/>
            </a:endParaRPr>
          </a:p>
          <a:p>
            <a:pPr lvl="1" marL="179280" indent="0">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各种疼痛的对症治疗、对病因治疗</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31" name="PlaceHolder 2"/>
          <p:cNvSpPr>
            <a:spLocks noGrp="1"/>
          </p:cNvSpPr>
          <p:nvPr>
            <p:ph/>
          </p:nvPr>
        </p:nvSpPr>
        <p:spPr>
          <a:xfrm>
            <a:off x="250560" y="1557000"/>
            <a:ext cx="8281800" cy="4103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zh-CN" sz="2800" spc="-1" strike="noStrike">
                <a:solidFill>
                  <a:srgbClr val="046ca6"/>
                </a:solidFill>
                <a:latin typeface="Verdana"/>
                <a:ea typeface="宋体"/>
              </a:rPr>
              <a:t>四）注意事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1.</a:t>
            </a:r>
            <a:r>
              <a:rPr b="1" lang="en-US" sz="2800" spc="-1" strike="noStrike">
                <a:solidFill>
                  <a:srgbClr val="8ac8de"/>
                </a:solidFill>
                <a:latin typeface="Verdana"/>
                <a:ea typeface="宋体"/>
              </a:rPr>
              <a:t> </a:t>
            </a:r>
            <a:r>
              <a:rPr b="1" lang="zh-CN" sz="2800" spc="-1" strike="noStrike">
                <a:solidFill>
                  <a:srgbClr val="046ca6"/>
                </a:solidFill>
                <a:latin typeface="Verdana"/>
                <a:ea typeface="宋体"/>
              </a:rPr>
              <a:t>体位：在针灸前应先使患者选择一个舒适的体位，避免造成弯针、滞针、断针等意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针灸部位及手法：根据不同的部位、皮肤薄厚、病情轻重、年龄和体质的不同，严格掌握针刺的角度、深度和手法，避免造成内脏出血、气胸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26560" y="333000"/>
            <a:ext cx="7921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33" name="PlaceHolder 2"/>
          <p:cNvSpPr>
            <a:spLocks noGrp="1"/>
          </p:cNvSpPr>
          <p:nvPr>
            <p:ph/>
          </p:nvPr>
        </p:nvSpPr>
        <p:spPr>
          <a:xfrm>
            <a:off x="108000" y="1052280"/>
            <a:ext cx="8610480" cy="4979880"/>
          </a:xfrm>
          <a:prstGeom prst="rect">
            <a:avLst/>
          </a:prstGeom>
          <a:noFill/>
          <a:ln w="0">
            <a:noFill/>
          </a:ln>
        </p:spPr>
        <p:txBody>
          <a:bodyPr anchor="t">
            <a:normAutofit/>
          </a:bodyPr>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避免意外情况发生：</a:t>
            </a:r>
            <a:r>
              <a:rPr b="1" lang="zh-CN" sz="2400" spc="-1" strike="noStrike">
                <a:solidFill>
                  <a:srgbClr val="046ca6"/>
                </a:solidFill>
                <a:latin typeface="宋体"/>
                <a:ea typeface="宋体"/>
              </a:rPr>
              <a:t>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避免在过饥、过劳、过度紧张时针灸。</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对身体瘦弱的患者，针刺手法不宜过强。</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高热患病、实证及阴虚发热者，皮肤有溃疡、伤口感染，瘢痕或肿瘤的部位，孕妇下腹部、腰骶部不宜针刺。</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三阴交、合谷、昆仑、至阴等通经活血的腧穴，在怀孕期亦应禁刺，妇女行经时亦慎用。</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小儿囟门未合时，头项部的腧穴不宜针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4"/>
          <p:cNvSpPr/>
          <p:nvPr/>
        </p:nvSpPr>
        <p:spPr>
          <a:xfrm>
            <a:off x="539640" y="1484280"/>
            <a:ext cx="8137800" cy="3226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有自发性出血倾向的患者，不宜针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对胸、腰、背部腧穴，不宜直刺、深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针刺眼区和项部风府、哑门等穴及脊椎部的腧穴，不宜大幅度提插、捻转和长时间留针。</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对尿潴留患者针刺小腹部穴位时，应掌握适当的针刺方向、角度、深度等。</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颜面、五官、大血管处，黏膜附近及毛发生长部位不宜直接灸。</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关节活动部位，不宜瘢痕灸。</a:t>
            </a:r>
            <a:endParaRPr b="0" lang="en-US" sz="2400" spc="-1" strike="noStrike">
              <a:solidFill>
                <a:srgbClr val="046ca6"/>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5" name="Text Box 5"/>
          <p:cNvSpPr/>
          <p:nvPr/>
        </p:nvSpPr>
        <p:spPr>
          <a:xfrm>
            <a:off x="1763640" y="333360"/>
            <a:ext cx="7201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七、</a:t>
            </a:r>
            <a:r>
              <a:rPr b="1" lang="zh-CN" sz="3200" spc="-1" strike="noStrike">
                <a:solidFill>
                  <a:srgbClr val="ffffff"/>
                </a:solidFill>
                <a:latin typeface="Arial"/>
                <a:ea typeface="宋体"/>
              </a:rPr>
              <a:t>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37" name="PlaceHolder 2"/>
          <p:cNvSpPr>
            <a:spLocks noGrp="1"/>
          </p:cNvSpPr>
          <p:nvPr>
            <p:ph/>
          </p:nvPr>
        </p:nvSpPr>
        <p:spPr>
          <a:xfrm>
            <a:off x="324000" y="2349360"/>
            <a:ext cx="8610480" cy="244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异常情况的处理：晕针、断针、气胸、血肿等出现，要马上出针并对症处理；滞针、弯针时不能强行出针，要使肌肉放松后，顺着方向缓慢出针。灸后如病人皮肤起小水疱，可暴露通风干燥，可以自行修复，数日后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39" name="PlaceHolder 2"/>
          <p:cNvSpPr>
            <a:spLocks noGrp="1"/>
          </p:cNvSpPr>
          <p:nvPr>
            <p:ph/>
          </p:nvPr>
        </p:nvSpPr>
        <p:spPr>
          <a:xfrm>
            <a:off x="250920" y="1628640"/>
            <a:ext cx="8610480" cy="410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推拿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推拿疗法古称按摩、按跷，是以中医理论为指导，运用推拿手法（有时要借助于一定的推拿工具），作用于患者体表特定部位或穴位来防治疾病的一种技术。可通过手法外力的直接作用，使各种原因造成的组织解剖位置异常得到纠正。关节脱位者，回复到正常的解剖位置；软组织错位者，使之各守其位。</a:t>
            </a:r>
            <a:r>
              <a:rPr b="1" lang="en-US" sz="2800" spc="-1" strike="noStrike">
                <a:solidFill>
                  <a:srgbClr val="046ca6"/>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2800" spc="-1" strike="noStrike">
                <a:solidFill>
                  <a:srgbClr val="ffffff"/>
                </a:solidFill>
                <a:latin typeface="Verdana"/>
                <a:ea typeface="宋体"/>
              </a:rPr>
              <a:t>传统疗法在康复护理中的应用</a:t>
            </a:r>
            <a:endParaRPr b="0" lang="en-US" sz="2800" spc="-1" strike="noStrike">
              <a:solidFill>
                <a:srgbClr val="ffffff"/>
              </a:solidFill>
              <a:latin typeface="Verdana"/>
            </a:endParaRPr>
          </a:p>
        </p:txBody>
      </p:sp>
      <p:sp>
        <p:nvSpPr>
          <p:cNvPr id="141" name="PlaceHolder 2"/>
          <p:cNvSpPr>
            <a:spLocks noGrp="1"/>
          </p:cNvSpPr>
          <p:nvPr>
            <p:ph/>
          </p:nvPr>
        </p:nvSpPr>
        <p:spPr>
          <a:xfrm>
            <a:off x="323640" y="1700280"/>
            <a:ext cx="8135640" cy="451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推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用手或拳在体表做直线缓慢运动。指推法：用拇指指腹在颈、项、手、足等部位做推动。掌推法：用手掌在背、腰或四肢处做推动。拳推法：用示、中、无名、小指指间关节作用于脊椎两侧做推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43" name="PlaceHolder 2"/>
          <p:cNvSpPr>
            <a:spLocks noGrp="1"/>
          </p:cNvSpPr>
          <p:nvPr>
            <p:ph/>
          </p:nvPr>
        </p:nvSpPr>
        <p:spPr>
          <a:xfrm>
            <a:off x="468000" y="2060640"/>
            <a:ext cx="4103640" cy="3868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拿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用拇指和余四指相对用力于患处组织，用力紧而不死，适于全身各处运用。具有解表发汗、镇静开窍作用。</a:t>
            </a:r>
            <a:endParaRPr b="1" lang="en-US" sz="2400" spc="-1" strike="noStrike">
              <a:solidFill>
                <a:srgbClr val="8ac8de"/>
              </a:solidFill>
              <a:latin typeface="Verdana"/>
            </a:endParaRPr>
          </a:p>
        </p:txBody>
      </p:sp>
      <p:pic>
        <p:nvPicPr>
          <p:cNvPr id="144" name="Picture 4" descr=""/>
          <p:cNvPicPr/>
          <p:nvPr/>
        </p:nvPicPr>
        <p:blipFill>
          <a:blip r:embed="rId1"/>
          <a:stretch/>
        </p:blipFill>
        <p:spPr>
          <a:xfrm>
            <a:off x="4859280" y="1557360"/>
            <a:ext cx="3529080" cy="338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46" name="PlaceHolder 2"/>
          <p:cNvSpPr>
            <a:spLocks noGrp="1"/>
          </p:cNvSpPr>
          <p:nvPr>
            <p:ph/>
          </p:nvPr>
        </p:nvSpPr>
        <p:spPr>
          <a:xfrm>
            <a:off x="250560" y="1557000"/>
            <a:ext cx="8713800" cy="4319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按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指端、指腹或手掌按压体表或穴位的方法。指按法：用拇指端或指腹按压穴位。掌按法：用单掌或双掌，也可用双掌重叠按压体表。着力部位要紧贴体表，不可移动，用力要由轻而重，再到轻，可配合重心的移位，不可用暴力。</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55000" cy="60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48" name="PlaceHolder 2"/>
          <p:cNvSpPr>
            <a:spLocks noGrp="1"/>
          </p:cNvSpPr>
          <p:nvPr>
            <p:ph/>
          </p:nvPr>
        </p:nvSpPr>
        <p:spPr>
          <a:xfrm>
            <a:off x="250560" y="1413000"/>
            <a:ext cx="85690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摩法  </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手指或手掌在体表做直线往返或环形移动的手法。指摩法：用示、中、无名指指面附着在一定的部位上，做节律性环旋运动。掌摩法：用手掌掌面附着于体表，连同前臂做节律性的环旋或往返运动。操作时肘关节自然屈曲、腕部放松，指掌自然伸直，动作缓和而协调。指摩法每分钟</a:t>
            </a:r>
            <a:r>
              <a:rPr b="1" lang="en-US" sz="2400" spc="-1" strike="noStrike">
                <a:solidFill>
                  <a:srgbClr val="046ca6"/>
                </a:solidFill>
                <a:latin typeface="Verdana"/>
                <a:ea typeface="宋体"/>
              </a:rPr>
              <a:t>9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00</a:t>
            </a:r>
            <a:r>
              <a:rPr b="1" lang="zh-CN" sz="2400" spc="-1" strike="noStrike">
                <a:solidFill>
                  <a:srgbClr val="046ca6"/>
                </a:solidFill>
                <a:latin typeface="Verdana"/>
                <a:ea typeface="宋体"/>
              </a:rPr>
              <a:t>次，掌摩法每分钟</a:t>
            </a:r>
            <a:r>
              <a:rPr b="1" lang="en-US" sz="2400" spc="-1" strike="noStrike">
                <a:solidFill>
                  <a:srgbClr val="046ca6"/>
                </a:solidFill>
                <a:latin typeface="Verdana"/>
                <a:ea typeface="宋体"/>
              </a:rPr>
              <a:t>7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0</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324000" y="1341000"/>
            <a:ext cx="8712000" cy="4505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中国传统的康复疗法是在中医理论的指导下对患者进行康复治疗的方法，是中国古代人民数千年来与疾病作斗争的实践经验的总结，具有安全、有效、乐于为群众所接受等特点。近年来，传统疗法越来越受到人们的关注，得到了很好的整理和提高，使之更科学、更适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中国传统的康复疗法主要手段有：针灸、导引、中药、推拿、拔罐、食疗和运动等。</a:t>
            </a:r>
            <a:endParaRPr b="1" lang="en-US" sz="2800" spc="-1" strike="noStrike">
              <a:solidFill>
                <a:srgbClr val="8ac8de"/>
              </a:solidFill>
              <a:latin typeface="Verdana"/>
            </a:endParaRPr>
          </a:p>
        </p:txBody>
      </p:sp>
      <p:sp>
        <p:nvSpPr>
          <p:cNvPr id="107" name="Text Box 5"/>
          <p:cNvSpPr/>
          <p:nvPr/>
        </p:nvSpPr>
        <p:spPr>
          <a:xfrm>
            <a:off x="826920" y="476280"/>
            <a:ext cx="8137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3200" spc="-1" strike="noStrike">
                <a:solidFill>
                  <a:srgbClr val="ffffff"/>
                </a:solidFill>
                <a:latin typeface="Arial"/>
                <a:ea typeface="宋体"/>
              </a:rPr>
              <a:t>七、   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6829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2800" spc="-1" strike="noStrike">
                <a:solidFill>
                  <a:srgbClr val="ffffff"/>
                </a:solidFill>
                <a:latin typeface="Verdana"/>
                <a:ea typeface="宋体"/>
              </a:rPr>
              <a:t>传统疗法在康复护理中的应用</a:t>
            </a:r>
            <a:endParaRPr b="0" lang="en-US" sz="2800" spc="-1" strike="noStrike">
              <a:solidFill>
                <a:srgbClr val="ffffff"/>
              </a:solidFill>
              <a:latin typeface="Verdana"/>
            </a:endParaRPr>
          </a:p>
        </p:txBody>
      </p:sp>
      <p:sp>
        <p:nvSpPr>
          <p:cNvPr id="150" name="PlaceHolder 2"/>
          <p:cNvSpPr>
            <a:spLocks noGrp="1"/>
          </p:cNvSpPr>
          <p:nvPr>
            <p:ph/>
          </p:nvPr>
        </p:nvSpPr>
        <p:spPr>
          <a:xfrm>
            <a:off x="682200" y="1773000"/>
            <a:ext cx="7777080" cy="309708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点法  </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拇指指尖或示指的第一指间关节突起部，按压一定部位的手法。屈拇指点：拇指指间关节屈曲，关节桡侧突起部位点住某一穴位。屈示指点：示指第一指间关节屈曲，关节突起部位点住某一穴位。拇指点：需手握空拳，拇指伸直，用指端点住某一穴位，前臂及腕用力下压。点法接触面积较小，刺激的强弱容易控制调节，对全身各部的经络穴位都可以应用。</a:t>
            </a:r>
            <a:endParaRPr b="1" lang="en-US" sz="2400" spc="-1" strike="noStrike">
              <a:solidFill>
                <a:srgbClr val="8ac8de"/>
              </a:solidFill>
              <a:latin typeface="Verdana"/>
            </a:endParaRPr>
          </a:p>
        </p:txBody>
      </p:sp>
      <p:sp>
        <p:nvSpPr>
          <p:cNvPr id="151" name="Rectangle 4"/>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050920" y="260280"/>
            <a:ext cx="68421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53" name="PlaceHolder 2"/>
          <p:cNvSpPr>
            <a:spLocks noGrp="1"/>
          </p:cNvSpPr>
          <p:nvPr>
            <p:ph/>
          </p:nvPr>
        </p:nvSpPr>
        <p:spPr>
          <a:xfrm>
            <a:off x="380520" y="1362240"/>
            <a:ext cx="851220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揉法</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手指或手掌在体表穴位处做揉动的手法。指揉法：用拇指指腹或示、中指指腹揉动体表的穴位。掌揉法：用全手掌在体表的腰、腹、四肢等处揉动，又可分为大鱼际揉法、掌根揉法。操作时紧贴体表，以带动皮下肌肉组织。腕部放松，以肘部为支点，前臂做主动摆动，带动腕部做轻柔缓和的摆动。频率为每分钟</a:t>
            </a:r>
            <a:r>
              <a:rPr b="1" lang="en-US" sz="2400" spc="-1" strike="noStrike">
                <a:solidFill>
                  <a:srgbClr val="046ca6"/>
                </a:solidFill>
                <a:latin typeface="Verdana"/>
                <a:ea typeface="宋体"/>
              </a:rPr>
              <a:t>10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20</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p:txBody>
      </p:sp>
      <p:sp>
        <p:nvSpPr>
          <p:cNvPr id="154" name="Rectangle 4"/>
          <p:cNvSpPr/>
          <p:nvPr/>
        </p:nvSpPr>
        <p:spPr>
          <a:xfrm>
            <a:off x="380880" y="1341360"/>
            <a:ext cx="3614760" cy="5024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050560" y="333000"/>
            <a:ext cx="675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56" name="PlaceHolder 2"/>
          <p:cNvSpPr>
            <a:spLocks noGrp="1"/>
          </p:cNvSpPr>
          <p:nvPr>
            <p:ph/>
          </p:nvPr>
        </p:nvSpPr>
        <p:spPr>
          <a:xfrm>
            <a:off x="304920" y="1773000"/>
            <a:ext cx="8299440" cy="4475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捏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以拇指及其他手指相对用力捏住肌肉或肌腱，循其走向向前推进的手法称为捏法。用于小儿疳积、消化不良、厌食、腹泻等治疗，对于体弱多病者可增强免疫功能；成人适用于慢性消化性疾病、月经不调、痛经、颈椎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339640" y="333000"/>
            <a:ext cx="6613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58" name="PlaceHolder 2"/>
          <p:cNvSpPr>
            <a:spLocks noGrp="1"/>
          </p:cNvSpPr>
          <p:nvPr>
            <p:ph/>
          </p:nvPr>
        </p:nvSpPr>
        <p:spPr>
          <a:xfrm>
            <a:off x="250920" y="1699920"/>
            <a:ext cx="8137440" cy="3857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8</a:t>
            </a:r>
            <a:r>
              <a:rPr b="1" lang="zh-CN" sz="2800" spc="-1" strike="noStrike">
                <a:solidFill>
                  <a:srgbClr val="046ca6"/>
                </a:solidFill>
                <a:latin typeface="Verdana"/>
                <a:ea typeface="宋体"/>
              </a:rPr>
              <a:t>．拍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用手掌拍击治疗部位，注意手部肌肉放松，手腕发软，以前臂发力。用力沉而不僵，富于弹性，适用于躯干、四肢。具有兴奋肌肤、解除疲劳作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123640" y="333000"/>
            <a:ext cx="67690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0" name="PlaceHolder 2"/>
          <p:cNvSpPr>
            <a:spLocks noGrp="1"/>
          </p:cNvSpPr>
          <p:nvPr>
            <p:ph/>
          </p:nvPr>
        </p:nvSpPr>
        <p:spPr>
          <a:xfrm>
            <a:off x="826560" y="2492280"/>
            <a:ext cx="7201080" cy="165600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推拿疗法特别适用于肢体瘫痪、疼痛以及关节活动障碍者。对肌肉劳损、四肢软组织和骨关节病变也效果很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marL="8128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2" name="PlaceHolder 2"/>
          <p:cNvSpPr>
            <a:spLocks noGrp="1"/>
          </p:cNvSpPr>
          <p:nvPr>
            <p:ph/>
          </p:nvPr>
        </p:nvSpPr>
        <p:spPr>
          <a:xfrm>
            <a:off x="394920" y="2276640"/>
            <a:ext cx="7705800" cy="2489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传统体育疗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传统体育疗法是运动与意念、呼吸调节相结合的医疗体操，以强身健体、康复身心为主要目标。主要运动形式有：气功、五禽戏、八段锦、易筋经、太极拳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4" name="PlaceHolder 2"/>
          <p:cNvSpPr>
            <a:spLocks noGrp="1"/>
          </p:cNvSpPr>
          <p:nvPr>
            <p:ph/>
          </p:nvPr>
        </p:nvSpPr>
        <p:spPr>
          <a:xfrm>
            <a:off x="304560" y="1628640"/>
            <a:ext cx="8227800" cy="4896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作用机制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增强正气，祛除病邪：传统体育康复法能锻炼人体的正气，提高人体抵抗病邪的能力，使人体血脉疏通，脏腑协调，代谢正常，从而修复机体的缺损，恢复或代偿丧失的功能，达到康复的目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调节精神，改善功能：传统体育康复通过“动”和“静”调节精神，使人感到心情舒畅，传入大脑皮层的不良冲动减少，消除消极情绪，脱离病态心理，促进机体功能的改善，达到康复身心的目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4"/>
          <p:cNvSpPr/>
          <p:nvPr/>
        </p:nvSpPr>
        <p:spPr>
          <a:xfrm>
            <a:off x="971640" y="2421000"/>
            <a:ext cx="7488000" cy="112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疏通经络，调和气血：在传统体育锻炼中发现，意到、气到的部位比锻炼前温度提高</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40℃</a:t>
            </a:r>
            <a:r>
              <a:rPr b="1" lang="zh-CN" sz="2800" spc="-1" strike="noStrike">
                <a:solidFill>
                  <a:srgbClr val="046ca6"/>
                </a:solidFill>
                <a:latin typeface="Arial"/>
                <a:ea typeface="宋体"/>
              </a:rPr>
              <a:t>，血流量也增加</a:t>
            </a:r>
            <a:r>
              <a:rPr b="1" lang="en-US" sz="2800" spc="-1" strike="noStrike">
                <a:solidFill>
                  <a:srgbClr val="046ca6"/>
                </a:solidFill>
                <a:latin typeface="Arial"/>
                <a:ea typeface="宋体"/>
              </a:rPr>
              <a:t>30%</a:t>
            </a:r>
            <a:r>
              <a:rPr b="1" lang="zh-CN" sz="2800" spc="-1" strike="noStrike">
                <a:solidFill>
                  <a:srgbClr val="046ca6"/>
                </a:solidFill>
                <a:latin typeface="Arial"/>
                <a:ea typeface="宋体"/>
              </a:rPr>
              <a:t>左右，白细胞的吞噬能力提高，从而证明传统体育锻炼可以疏通经络、调和气血，达到防病、治病、康复之功效。</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6" name="Text Box 5"/>
          <p:cNvSpPr/>
          <p:nvPr/>
        </p:nvSpPr>
        <p:spPr>
          <a:xfrm>
            <a:off x="2050920" y="404640"/>
            <a:ext cx="676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8" name="PlaceHolder 2"/>
          <p:cNvSpPr>
            <a:spLocks noGrp="1"/>
          </p:cNvSpPr>
          <p:nvPr>
            <p:ph/>
          </p:nvPr>
        </p:nvSpPr>
        <p:spPr>
          <a:xfrm>
            <a:off x="5579640" y="1980720"/>
            <a:ext cx="1584360" cy="4876920"/>
          </a:xfrm>
          <a:prstGeom prst="rect">
            <a:avLst/>
          </a:prstGeom>
          <a:noFill/>
          <a:ln w="0">
            <a:noFill/>
          </a:ln>
        </p:spPr>
        <p:txBody>
          <a:bodyPr anchor="t" vert="eaVert">
            <a:normAutofit/>
          </a:bodyPr>
          <a:p>
            <a:pPr marL="711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7113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太 极 拳    </a:t>
            </a:r>
            <a:endParaRPr b="1" lang="en-US" sz="3200" spc="-1" strike="noStrike">
              <a:solidFill>
                <a:srgbClr val="8ac8de"/>
              </a:solidFill>
              <a:latin typeface="Verdana"/>
            </a:endParaRPr>
          </a:p>
        </p:txBody>
      </p:sp>
      <p:sp>
        <p:nvSpPr>
          <p:cNvPr id="169"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11"/>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72" name="Picture 14" descr="t013e76fe8a4fe72337"/>
          <p:cNvPicPr/>
          <p:nvPr/>
        </p:nvPicPr>
        <p:blipFill>
          <a:blip r:embed="rId1"/>
          <a:stretch/>
        </p:blipFill>
        <p:spPr>
          <a:xfrm>
            <a:off x="1258920" y="206064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pic>
        <p:nvPicPr>
          <p:cNvPr id="174" name="Picture 7" descr="t01c55a0905db16c1f5"/>
          <p:cNvPicPr/>
          <p:nvPr/>
        </p:nvPicPr>
        <p:blipFill>
          <a:blip r:embed="rId1"/>
          <a:stretch/>
        </p:blipFill>
        <p:spPr>
          <a:xfrm>
            <a:off x="1692360" y="2565360"/>
            <a:ext cx="2095560" cy="2793960"/>
          </a:xfrm>
          <a:prstGeom prst="rect">
            <a:avLst/>
          </a:prstGeom>
          <a:ln w="0">
            <a:noFill/>
          </a:ln>
        </p:spPr>
      </p:pic>
      <p:pic>
        <p:nvPicPr>
          <p:cNvPr id="175" name="Picture 8" descr="t01c80b901091d1b4fd"/>
          <p:cNvPicPr/>
          <p:nvPr/>
        </p:nvPicPr>
        <p:blipFill>
          <a:blip r:embed="rId2">
            <a:lum bright="20000"/>
          </a:blip>
          <a:stretch/>
        </p:blipFill>
        <p:spPr>
          <a:xfrm>
            <a:off x="5076720" y="1844640"/>
            <a:ext cx="2686320" cy="380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七、传统疗法在康复护理中的应用</a:t>
            </a:r>
            <a:endParaRPr b="0" lang="en-US" sz="3200" spc="-1" strike="noStrike">
              <a:solidFill>
                <a:srgbClr val="ffffff"/>
              </a:solidFill>
              <a:latin typeface="Verdana"/>
            </a:endParaRPr>
          </a:p>
        </p:txBody>
      </p:sp>
      <p:sp>
        <p:nvSpPr>
          <p:cNvPr id="109" name=""/>
          <p:cNvSpPr txBox="1"/>
          <p:nvPr/>
        </p:nvSpPr>
        <p:spPr>
          <a:xfrm>
            <a:off x="394920" y="1557000"/>
            <a:ext cx="8466120" cy="4103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内容简介</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针灸疗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二、推拿疗法</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传统体育疗法</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四、气功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五、饮食疗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六、调摄情志疗法</a:t>
            </a:r>
            <a:r>
              <a:rPr b="1" lang="zh-CN" sz="2400" spc="-1" strike="noStrike">
                <a:solidFill>
                  <a:srgbClr val="046ca6"/>
                </a:solidFill>
                <a:latin typeface="楷体"/>
                <a:ea typeface="楷体"/>
              </a:rPr>
              <a:t> </a:t>
            </a:r>
            <a:endParaRPr b="1" lang="en-US" sz="24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pic>
        <p:nvPicPr>
          <p:cNvPr id="177" name="Picture 46" descr="t01679f2e822caccaeb"/>
          <p:cNvPicPr/>
          <p:nvPr/>
        </p:nvPicPr>
        <p:blipFill>
          <a:blip r:embed="rId1"/>
          <a:stretch/>
        </p:blipFill>
        <p:spPr>
          <a:xfrm>
            <a:off x="1476360" y="2205000"/>
            <a:ext cx="5759640" cy="3168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79" name="PlaceHolder 2"/>
          <p:cNvSpPr>
            <a:spLocks noGrp="1"/>
          </p:cNvSpPr>
          <p:nvPr>
            <p:ph/>
          </p:nvPr>
        </p:nvSpPr>
        <p:spPr>
          <a:xfrm>
            <a:off x="899640" y="2565360"/>
            <a:ext cx="7201080" cy="2951280"/>
          </a:xfrm>
          <a:prstGeom prst="rect">
            <a:avLst/>
          </a:prstGeom>
          <a:noFill/>
          <a:ln w="0">
            <a:noFill/>
          </a:ln>
        </p:spPr>
        <p:txBody>
          <a:bodyPr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传统体育疗法特别适用于增强患者的体质，改善患者的整体功能。可根据患者身体的状况和肢体伤残的情况，选择不同的功法进行锻炼，也可选择某一个动作进行锻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81" name="PlaceHolder 2"/>
          <p:cNvSpPr>
            <a:spLocks noGrp="1"/>
          </p:cNvSpPr>
          <p:nvPr>
            <p:ph/>
          </p:nvPr>
        </p:nvSpPr>
        <p:spPr>
          <a:xfrm>
            <a:off x="533160" y="1773360"/>
            <a:ext cx="7926120" cy="3311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气功</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气功，又称“导引”、“吐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源于原始社会末期，经诸子百家的研习，以调整呼吸、吐故纳新（即练气）为主要特征，是神（精神）、形（形体）、气（气息）综合修炼的养生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4"/>
          <p:cNvSpPr/>
          <p:nvPr/>
        </p:nvSpPr>
        <p:spPr>
          <a:xfrm>
            <a:off x="826920" y="1413000"/>
            <a:ext cx="7705800" cy="362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提高人体免疫功能，增强抗病能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疏通经络，改善血液循环。</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松弛身心，消除不良情绪。</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降低基础代谢，增加能量储备</a:t>
            </a:r>
            <a:r>
              <a:rPr b="1" lang="zh-CN" sz="3200" spc="-1" strike="noStrike">
                <a:solidFill>
                  <a:srgbClr val="046ca6"/>
                </a:solidFill>
                <a:latin typeface="Arial"/>
                <a:ea typeface="宋体"/>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基本练法归纳起来就是“三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调身</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调息</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调心 </a:t>
            </a:r>
            <a:endParaRPr b="0" lang="en-US" sz="2800" spc="-1" strike="noStrike">
              <a:solidFill>
                <a:srgbClr val="046ca6"/>
              </a:solidFill>
              <a:latin typeface="Arial"/>
            </a:endParaRPr>
          </a:p>
        </p:txBody>
      </p:sp>
      <p:sp>
        <p:nvSpPr>
          <p:cNvPr id="183" name="Text Box 5"/>
          <p:cNvSpPr/>
          <p:nvPr/>
        </p:nvSpPr>
        <p:spPr>
          <a:xfrm>
            <a:off x="2124000" y="404640"/>
            <a:ext cx="66960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4"/>
          <p:cNvSpPr/>
          <p:nvPr/>
        </p:nvSpPr>
        <p:spPr>
          <a:xfrm>
            <a:off x="1042920" y="2060640"/>
            <a:ext cx="72723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气功在康复护理中适用于：</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体质较差者：有良好的强身健体、促进康复的作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卒中后遗症患者：有改善脑循环、促进脑功能恢复的作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慢性病、老年人机体功能减退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5" name="Text Box 5"/>
          <p:cNvSpPr/>
          <p:nvPr/>
        </p:nvSpPr>
        <p:spPr>
          <a:xfrm>
            <a:off x="1908000" y="682560"/>
            <a:ext cx="5616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Text Box 6"/>
          <p:cNvSpPr/>
          <p:nvPr/>
        </p:nvSpPr>
        <p:spPr>
          <a:xfrm>
            <a:off x="2411280" y="404640"/>
            <a:ext cx="6551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88"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饮食疗法</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饮食疗法是通过改变饮食的品种、结构、烹饪的方法等来防治疾病、康复身心的治疗方法。中医在这方面有较为深入与广泛的研究，对患者的康复有良好的促进作用。</a:t>
            </a:r>
            <a:endParaRPr b="1" lang="en-US" sz="2400" spc="-1" strike="noStrike">
              <a:solidFill>
                <a:srgbClr val="8ac8de"/>
              </a:solidFill>
              <a:latin typeface="Verdana"/>
            </a:endParaRPr>
          </a:p>
          <a:p>
            <a:pPr lvl="1"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身体虚弱、食欲不佳的康复患者特别适合辅以饮食疗法。</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90" name="PlaceHolder 2"/>
          <p:cNvSpPr>
            <a:spLocks noGrp="1"/>
          </p:cNvSpPr>
          <p:nvPr>
            <p:ph/>
          </p:nvPr>
        </p:nvSpPr>
        <p:spPr>
          <a:xfrm>
            <a:off x="304560" y="1371240"/>
            <a:ext cx="883908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六、调摄情志</a:t>
            </a:r>
            <a:endParaRPr b="1" lang="en-US" sz="2800" spc="-1" strike="noStrike">
              <a:solidFill>
                <a:srgbClr val="8ac8de"/>
              </a:solidFill>
              <a:latin typeface="Verdana"/>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广义的调摄情志疗法就是具有中医特色的心理治疗，主要包括：五志相胜疗法、言语开导疗法、清心静神疗法、疏导宣泄疗法、生活娱乐疗法、私欲节制疗法等。狭义的调摄情志疗法就是五志相胜疗法。  </a:t>
            </a:r>
            <a:endParaRPr b="1" lang="en-US" sz="24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中医理论认为人有七情，即喜、怒、忧、思、悲、恐、惊。七情归于五脏，五脏分属木、火、土、水、金五行，五行相生相克，因而喜、怒、忧、思、恐之间存在着相生相克的关系。</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94" name="PlaceHolder 2"/>
          <p:cNvSpPr>
            <a:spLocks noGrp="1"/>
          </p:cNvSpPr>
          <p:nvPr>
            <p:ph/>
          </p:nvPr>
        </p:nvSpPr>
        <p:spPr>
          <a:xfrm>
            <a:off x="899640" y="1773360"/>
            <a:ext cx="7488360" cy="403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具体方法有：</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恐胜喜疗法：以恐吓的方法使患者从狂喜的病态中解脱出来。例如：范进的岳父以打骂的方式，通过恐吓将他从中举后的喜疯之中解救出来，使其恢复了常态（余下的操作方法以此类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怒胜思疗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喜胜忧疗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思胜恐疗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悲胜怒疗法</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000" y="404640"/>
            <a:ext cx="86756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12" name="PlaceHolder 2"/>
          <p:cNvSpPr>
            <a:spLocks noGrp="1"/>
          </p:cNvSpPr>
          <p:nvPr>
            <p:ph/>
          </p:nvPr>
        </p:nvSpPr>
        <p:spPr>
          <a:xfrm>
            <a:off x="324000" y="1196640"/>
            <a:ext cx="864072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一、针灸疗法</a:t>
            </a:r>
            <a:endParaRPr b="1" lang="en-US" sz="32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针刺疗法与艾灸疗法的合称。</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针刺疗法：是应用不同的针具，在人体腧穴（穴位）或病变部位，运用不同的操作手法进行刺激来防病治病的方法。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艾灸疗法：是以艾绒等为主要原料，做成一定的形状，在人体的腧穴或病变部位进行烧灼或温烤，用来治疗和预防疾病的方法。</a:t>
            </a:r>
            <a:endParaRPr b="1" lang="en-US" sz="24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113" name="Picture 6" descr=""/>
          <p:cNvPicPr/>
          <p:nvPr/>
        </p:nvPicPr>
        <p:blipFill>
          <a:blip r:embed="rId1"/>
          <a:stretch/>
        </p:blipFill>
        <p:spPr>
          <a:xfrm>
            <a:off x="5796000" y="4724280"/>
            <a:ext cx="2736720" cy="172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15" name="PlaceHolder 2"/>
          <p:cNvSpPr>
            <a:spLocks noGrp="1"/>
          </p:cNvSpPr>
          <p:nvPr>
            <p:ph/>
          </p:nvPr>
        </p:nvSpPr>
        <p:spPr>
          <a:xfrm>
            <a:off x="304920" y="907560"/>
            <a:ext cx="8610480" cy="53406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作用机制</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46ca6"/>
                </a:solidFill>
                <a:latin typeface="宋体"/>
                <a:ea typeface="宋体"/>
              </a:rPr>
              <a:t>针灸疗法的理论基础是中医的经络学说。中医认为，人体功能的维持靠周身的气血运行，而气血运行的通道就是遍布周身、连接五脏六腑、沟通体表与内脏的经络。经络中的气血运行是否畅通直接关系到人体的健康与否。针灸则是调节经络中气血运行的重要方法，通过调节使经络中阻塞的气血变得通畅，使气血运行趋于平衡，从而达到防病治病的目的。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    </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双向调节作用</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    </a:t>
            </a: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调节人体的免疫功能</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    </a:t>
            </a: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镇痛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17" name="PlaceHolder 2"/>
          <p:cNvSpPr>
            <a:spLocks noGrp="1"/>
          </p:cNvSpPr>
          <p:nvPr>
            <p:ph/>
          </p:nvPr>
        </p:nvSpPr>
        <p:spPr>
          <a:xfrm>
            <a:off x="533520" y="2276640"/>
            <a:ext cx="8610480" cy="3457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处方原则</a:t>
            </a:r>
            <a:endParaRPr b="1" lang="en-US" sz="2800" spc="-1" strike="noStrike">
              <a:solidFill>
                <a:srgbClr val="8ac8de"/>
              </a:solidFill>
              <a:latin typeface="Verdana"/>
            </a:endParaRPr>
          </a:p>
        </p:txBody>
      </p:sp>
      <p:sp>
        <p:nvSpPr>
          <p:cNvPr id="118" name="Rectangle 12"/>
          <p:cNvSpPr/>
          <p:nvPr/>
        </p:nvSpPr>
        <p:spPr>
          <a:xfrm>
            <a:off x="611280" y="3369600"/>
            <a:ext cx="784836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46ca6"/>
                </a:solidFill>
                <a:latin typeface="宋体"/>
                <a:ea typeface="宋体"/>
              </a:rPr>
              <a:t>针灸处方是根据病情进行辨证后，选择适当的腧穴和针灸方法并加以配伍而取得的治疗效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选穴的原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近部取穴：选取疾病部位或附近的穴位进行治疗。</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远部取穴：选取病变部位所属和相关的经络，根据“经脉所过，主治所及”的原则取穴。如四总穴歌：肚腹三里留，腰背委中求，头项寻列缺，面口合谷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4"/>
          <p:cNvSpPr/>
          <p:nvPr/>
        </p:nvSpPr>
        <p:spPr>
          <a:xfrm>
            <a:off x="611280" y="2133720"/>
            <a:ext cx="799308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  </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随症取穴：有些疾病可出现全身的症状，可针对症状选取有特定作用的穴位，如发热取大椎、呃逆取内关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配穴方法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400" spc="-1" strike="noStrike">
                <a:solidFill>
                  <a:srgbClr val="046ca6"/>
                </a:solidFill>
                <a:latin typeface="宋体"/>
                <a:ea typeface="宋体"/>
              </a:rPr>
              <a:t>常用的配穴方法有远近配穴法、前后配穴法、上下配穴法、左右配穴法等。</a:t>
            </a:r>
            <a:r>
              <a:rPr b="0" lang="zh-CN" sz="2800" spc="-1" strike="noStrike">
                <a:solidFill>
                  <a:srgbClr val="046ca6"/>
                </a:solidFill>
                <a:latin typeface="楷体"/>
                <a:ea typeface="楷体"/>
              </a:rPr>
              <a:t>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0" name="Text Box 5"/>
          <p:cNvSpPr/>
          <p:nvPr/>
        </p:nvSpPr>
        <p:spPr>
          <a:xfrm>
            <a:off x="1403280" y="620640"/>
            <a:ext cx="6840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6"/>
          <p:cNvSpPr/>
          <p:nvPr/>
        </p:nvSpPr>
        <p:spPr>
          <a:xfrm>
            <a:off x="1908000" y="476280"/>
            <a:ext cx="70567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23" name="PlaceHolder 2"/>
          <p:cNvSpPr>
            <a:spLocks noGrp="1"/>
          </p:cNvSpPr>
          <p:nvPr>
            <p:ph/>
          </p:nvPr>
        </p:nvSpPr>
        <p:spPr>
          <a:xfrm>
            <a:off x="250560" y="1052640"/>
            <a:ext cx="8281800" cy="5400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三）操作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  </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针刺法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体位选择：仰卧位、侧卧位、坐位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进针法</a:t>
            </a:r>
            <a:endParaRPr b="1" lang="en-US" sz="24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指切进针法：左手拇指或示指端切按在穴位的旁边，右手持针紧靠指甲缘将针刺入皮肤内。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夹持进针法：左手拇指、示指持捏消毒棉球夹住针身下端，将针尖固定在腧穴皮肤表面，右手将针迅速刺入。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提捏进针法：左手拇指、示指将针刺部位的皮肤捏起，右手持针从捏起的皮肤上端将针刺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舒张进针法：左手拇指、示指将针刺部位的皮肤向两侧撑开，使皮肤绷紧，右手持针从左手拇指、示指的中间刺入。</a:t>
            </a: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Rectangle 6"/>
          <p:cNvSpPr/>
          <p:nvPr/>
        </p:nvSpPr>
        <p:spPr>
          <a:xfrm>
            <a:off x="-4861080" y="2994840"/>
            <a:ext cx="16376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26920" y="333000"/>
            <a:ext cx="80661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26" name="PlaceHolder 2"/>
          <p:cNvSpPr>
            <a:spLocks noGrp="1"/>
          </p:cNvSpPr>
          <p:nvPr>
            <p:ph/>
          </p:nvPr>
        </p:nvSpPr>
        <p:spPr>
          <a:xfrm>
            <a:off x="250560" y="1341000"/>
            <a:ext cx="57070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艾灸法</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艾条灸：点燃艾条熏烤穴位或患处。艾条灸分为温和灸、雀啄灸和回旋灸。</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药条灸：药条即艾绒中掺入其他中药粉末，一起卷入艾条。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艾柱灸：艾柱是指将艾绒捏成上小下大的圆锥体，可为莲子、半个橄榄大小不等。燃烧一个艾柱为一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温针灸：这种方法是针刺与艾灸相结合的治疗方法，适用于既需要针刺又要施灸的疾病。 </a:t>
            </a:r>
            <a:endParaRPr b="1" lang="en-US" sz="2400" spc="-1" strike="noStrike">
              <a:solidFill>
                <a:srgbClr val="8ac8de"/>
              </a:solidFill>
              <a:latin typeface="Verdana"/>
            </a:endParaRPr>
          </a:p>
        </p:txBody>
      </p:sp>
      <p:pic>
        <p:nvPicPr>
          <p:cNvPr id="127" name="Picture 4" descr="t012731b2ab97306482"/>
          <p:cNvPicPr/>
          <p:nvPr/>
        </p:nvPicPr>
        <p:blipFill>
          <a:blip r:embed="rId1"/>
          <a:stretch/>
        </p:blipFill>
        <p:spPr>
          <a:xfrm>
            <a:off x="6156360" y="3141720"/>
            <a:ext cx="2400120" cy="209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7:40:06Z</dcterms:modified>
  <cp:revision>8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